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png" ContentType="image/png"/>
  <Override PartName="/ppt/media/image4.pct" ContentType="image/x-pict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2590-BF96-40BF-89EA-FF70CDF36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hange Science Requirements for Long-Term Arch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significant property - the scientific integrity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MIS entity&lt;-&gt;relationship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s to archive and distribute da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ransfer materials to another archive if unable to support it prop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restr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distribution rights for foreig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of limited distribution during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easy to for others in field to underst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full of jargon and specialize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difficult for users not in field to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NSIDC web information explicitly at undergraduate studen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chang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67E5-B28B-4061-8BEB-E5F365926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E7AA-BEC1-4E6C-B2B7-8A38719AE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62F4-EA96-41D0-8C5C-431D07E23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8930-B0E1-4414-B077-BE0048569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97D9-0D26-4E91-AE05-958C505CE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AC25-3DA5-455F-8245-2CC3567E6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FE24-7FFD-47AE-B7E3-310CE2EA1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2535-8A2D-498A-972A-4A164ED53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9962-BBDE-4C8A-B726-D8C258EED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36E4-BF54-459C-9210-0533125D3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1320-27BC-43FD-B2D6-92D78A01E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41739-DFAC-4D2F-9D72-A85E3A69E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erview of Guiding Documents -  R. Duer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IP Federation Meeting, Santa Barbara, July 200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60" y="645768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39D1-CF4B-48A4-9B96-37E3091C20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324480"/>
            <a:ext cx="20019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32000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venance &amp; Context Workshop - Guiding Documents</a:t>
            </a:r>
            <a:endParaRPr b="1" i="1" lang="en-US" sz="36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124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6400800"/>
            <a:ext cx="6096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 R. Duerr at the Summer Institute on Data Curation, June 2-5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raduate School of Library and Information Science, University of Illinois at Urbana-Champaig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685800"/>
            <a:ext cx="8458200" cy="144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458200" y="6302520"/>
            <a:ext cx="590400" cy="502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ovenance and Contextual Information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ment/sensor characteristics including pre-flight or pre-operational performance measurements (e.g., spectral response, noise characteristic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ment/sensor calibration data and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algorithms and their scientific basis, including complete description of any sampling or mapping algorithm used in creation of the product (e.g., contained in peer-reviewed papers, in some cases supplemented by thematic information introducing the data set or derived produ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information on any ancillary data or other data sets used in generation or calibration of the data set or derive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0960" y="645804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59A-B15F-48E8-ABC5-BC454A9328C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400800"/>
            <a:ext cx="6096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 R. Duerr at the Summer Institute on Data Curation, June 2-5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raduate School of Library and Information Science, University of Illinois at Urbana-Champaig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685800"/>
            <a:ext cx="8458200" cy="144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458200" y="6302520"/>
            <a:ext cx="590400" cy="502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ovenance and Contextual Information (cont.)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01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 fontScale="88000"/>
          </a:bodyPr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history including versions of processing source code corresponding to versions of the data set or derived product held in the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assessm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ation record, including identification of validation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ase of earth based data, station location and any changes in location, instrumentation, controlling agency, surrounding land use and other factors which could influence the long-term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ibliography of pertinent Technical Notes and articles, including refereed publications reporting on research using the data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ceived back from users of the data set o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960" y="645804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7919-871E-43AE-B2BB-6887B275889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Where did it come from?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 = PREservation Metadata: Implementa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 an OCLC and RLG sponsored international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ves from libraries, museums, archives, government, and the private se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he OAIS refer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What’s its purpose?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 core preservation metadata set with broad applicability across the digital preservation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by a data dictio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XML sch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Examples are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What’s its status?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ed by the Library of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orial board with international memb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community consulted on changes through the PREMIS Implementers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1 was released in June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2 was released in March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6200" y="160020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6483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31240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361960" y="2057400"/>
            <a:ext cx="1523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361960" y="4038480"/>
            <a:ext cx="1523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257440" y="2057040"/>
            <a:ext cx="1523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57440" y="4038480"/>
            <a:ext cx="1523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90920" y="1828440"/>
            <a:ext cx="3733560" cy="2286000"/>
          </a:xfrm>
          <a:prstGeom prst="wedgeRoundRectCallout">
            <a:avLst>
              <a:gd name="adj1" fmla="val -55615"/>
              <a:gd name="adj2" fmla="val 61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herent set of con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reasonab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d as a uni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a web site, dat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r collection of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676520"/>
            <a:ext cx="3733920" cy="2286000"/>
          </a:xfrm>
          <a:prstGeom prst="wedgeRoundRectCallout">
            <a:avLst>
              <a:gd name="adj1" fmla="val -66453"/>
              <a:gd name="adj2" fmla="val 324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crete unit of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igital for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a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352680"/>
            <a:ext cx="3733920" cy="2286000"/>
          </a:xfrm>
          <a:prstGeom prst="wedgeRoundRectCallout">
            <a:avLst>
              <a:gd name="adj1" fmla="val -4847"/>
              <a:gd name="adj2" fmla="val -85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s of one 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s or permi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aining to an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n ag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opywrite notice, leg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e, deposit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895480" y="1447560"/>
            <a:ext cx="3733920" cy="2286000"/>
          </a:xfrm>
          <a:prstGeom prst="wedgeRoundRectCallout">
            <a:avLst>
              <a:gd name="adj1" fmla="val -4847"/>
              <a:gd name="adj2" fmla="val -85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nvolves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one object or ag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to the preserv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reated, archive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1676520"/>
            <a:ext cx="3733920" cy="2286000"/>
          </a:xfrm>
          <a:prstGeom prst="wedgeRoundRectCallout">
            <a:avLst>
              <a:gd name="adj1" fmla="val -66453"/>
              <a:gd name="adj2" fmla="val 324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, organization,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gram associ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reservation ev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fe of an object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Dr. Spock donate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Entity-Relationship Diagram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0666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1240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1981080"/>
            <a:ext cx="0" cy="1143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2767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336"/>
                </a:moveTo>
                <a:cubicBezTo>
                  <a:pt x="240" y="268"/>
                  <a:pt x="0" y="200"/>
                  <a:pt x="0" y="144"/>
                </a:cubicBezTo>
                <a:cubicBezTo>
                  <a:pt x="0" y="88"/>
                  <a:pt x="400" y="24"/>
                  <a:pt x="480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Types of Object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on - “the set of files needed for a complete and reasonable rendition of an Intellectual Ent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tstream - “contiguous or non-contiguous data within a file that has meaningful common properties for preservation purpos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dent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dentifier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dentifier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ation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Categor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sition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DigestAlgorith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Dig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DigestOrigin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matDesig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Ver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mat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Registry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RegistryK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RegistryR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Properties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ib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hibitor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hibitor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hibitor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 (continued)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ng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ngApplication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ngApplication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CreatedBy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ngApplicationEx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Location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Location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InformationEnc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Validation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InformationEx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 (continued)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Characteris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Purp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end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endency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endencyIdentif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endencyIdentifierT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endencyIdentifier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Other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Depend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w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w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wOther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utline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IS Refer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GCRP Gu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 Metadata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 (continued)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onship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onshipSub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edObjectIdentification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edEventIdentification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EventIdentifier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IntellectualEntityIdentifier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RightsStatementIdentifier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 Note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l fields are mand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l fields apply to all types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ields are repe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Event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Ident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Identifi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Identifier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Date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Det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Outcome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Outc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Outcome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AgentIdent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AgentIdentifi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AgentIdentifier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Agent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ObjectIdent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ObjectIdentifi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ObjectIdentifier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ObjectIdentifier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Agent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Identif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Identifier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Identifier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Rights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s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ghtsStateme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sStat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sStat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r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ghtsB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rightInformation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censeInformation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uteInformation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sGr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i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Of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ghtsGrantedN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ingObjectIdent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ingAgentIdent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s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The OAIS Reference Model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CSDS and ISO standard detail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ponsibilities of an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unctional model describing how to preserve information and make it available to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formation model describing what ancillary information is needed to ensure that future users understand and can use the information p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mon set of terminology that can be used to describe the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Archive Responsibilitie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e with information providers to receive and obtain sufficient rights to appropriate information to ensure long-term pre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ate a community which should be able to understand the information p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 that the information is independently understandable to that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 procedures and policies regarding data preservation and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the information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Functional Model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295280"/>
            <a:ext cx="4876920" cy="419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IS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5053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505320"/>
            <a:ext cx="99036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41911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51460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4952880"/>
            <a:ext cx="4572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27672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124080" y="2895120"/>
            <a:ext cx="9144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89548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800600" y="373356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7339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27672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7339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5638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38080" y="2057040"/>
            <a:ext cx="1371600" cy="12193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114800"/>
            <a:ext cx="1371600" cy="10666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133720"/>
            <a:ext cx="1371600" cy="10666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781680" y="4114440"/>
            <a:ext cx="1447920" cy="10666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666880" y="3885840"/>
            <a:ext cx="0" cy="106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343400" y="4572000"/>
            <a:ext cx="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24480" y="3885840"/>
            <a:ext cx="0" cy="106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952880" y="3200400"/>
            <a:ext cx="0" cy="17524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52680" y="2286000"/>
            <a:ext cx="0" cy="2666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343400" y="5334120"/>
            <a:ext cx="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Information Model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1373040"/>
            <a:ext cx="6324480" cy="3886200"/>
            <a:chOff x="1371600" y="1373040"/>
            <a:chExt cx="6324480" cy="3886200"/>
          </a:xfrm>
        </p:grpSpPr>
        <p:sp>
          <p:nvSpPr>
            <p:cNvPr id="92" name=""/>
            <p:cNvSpPr/>
            <p:nvPr/>
          </p:nvSpPr>
          <p:spPr>
            <a:xfrm>
              <a:off x="2286000" y="1449360"/>
              <a:ext cx="160020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6920" y="1449360"/>
              <a:ext cx="160020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er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1373040"/>
              <a:ext cx="5867280" cy="1981440"/>
            </a:xfrm>
            <a:custGeom>
              <a:avLst/>
              <a:gdLst/>
              <a:ahLst/>
              <a:rect l="l" t="t" r="r" b="b"/>
              <a:pathLst>
                <a:path w="3696" h="1248">
                  <a:moveTo>
                    <a:pt x="0" y="0"/>
                  </a:moveTo>
                  <a:lnTo>
                    <a:pt x="288" y="0"/>
                  </a:lnTo>
                  <a:lnTo>
                    <a:pt x="288" y="960"/>
                  </a:lnTo>
                  <a:lnTo>
                    <a:pt x="1824" y="960"/>
                  </a:lnTo>
                  <a:lnTo>
                    <a:pt x="1824" y="528"/>
                  </a:lnTo>
                  <a:lnTo>
                    <a:pt x="2016" y="528"/>
                  </a:lnTo>
                  <a:lnTo>
                    <a:pt x="2016" y="960"/>
                  </a:lnTo>
                  <a:lnTo>
                    <a:pt x="3408" y="960"/>
                  </a:lnTo>
                  <a:lnTo>
                    <a:pt x="3408" y="48"/>
                  </a:lnTo>
                  <a:lnTo>
                    <a:pt x="3696" y="48"/>
                  </a:lnTo>
                  <a:lnTo>
                    <a:pt x="3696" y="1248"/>
                  </a:lnTo>
                  <a:lnTo>
                    <a:pt x="0" y="1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4192560"/>
              <a:ext cx="228600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out Packag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6720" y="34909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Packag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78160" y="2897280"/>
              <a:ext cx="40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aging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266720" y="3963600"/>
              <a:ext cx="1143000" cy="762120"/>
            </a:xfrm>
            <a:prstGeom prst="line">
              <a:avLst/>
            </a:prstGeom>
            <a:ln w="38160">
              <a:solidFill>
                <a:srgbClr val="adf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Information Model - Content Info.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Object - the information to be pre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onal Information - allows a user to understand the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 (e.g., flat binary file, ASCII table, net-CDF file, HDF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(e.g., a table of station IDs, dates, latitude, longitude, incidence angle, brightness tempera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65960" y="974880"/>
            <a:ext cx="450720" cy="287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96400" y="974880"/>
            <a:ext cx="45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07120" y="954000"/>
            <a:ext cx="1656000" cy="532080"/>
          </a:xfrm>
          <a:custGeom>
            <a:avLst/>
            <a:gdLst/>
            <a:ahLst/>
            <a:rect l="l" t="t" r="r" b="b"/>
            <a:pathLst>
              <a:path w="3696" h="1248">
                <a:moveTo>
                  <a:pt x="0" y="0"/>
                </a:moveTo>
                <a:lnTo>
                  <a:pt x="288" y="0"/>
                </a:lnTo>
                <a:lnTo>
                  <a:pt x="288" y="960"/>
                </a:lnTo>
                <a:lnTo>
                  <a:pt x="1824" y="960"/>
                </a:lnTo>
                <a:lnTo>
                  <a:pt x="1824" y="528"/>
                </a:lnTo>
                <a:lnTo>
                  <a:pt x="2016" y="528"/>
                </a:lnTo>
                <a:lnTo>
                  <a:pt x="2016" y="960"/>
                </a:lnTo>
                <a:lnTo>
                  <a:pt x="3408" y="960"/>
                </a:lnTo>
                <a:lnTo>
                  <a:pt x="3408" y="48"/>
                </a:lnTo>
                <a:lnTo>
                  <a:pt x="3696" y="48"/>
                </a:lnTo>
                <a:lnTo>
                  <a:pt x="3696" y="1248"/>
                </a:lnTo>
                <a:lnTo>
                  <a:pt x="0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21520" y="1617840"/>
            <a:ext cx="6447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7716600" y="1464840"/>
            <a:ext cx="322200" cy="204840"/>
          </a:xfrm>
          <a:prstGeom prst="line">
            <a:avLst/>
          </a:prstGeom>
          <a:ln w="38160">
            <a:solidFill>
              <a:srgbClr val="adf0c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Info. Model - Preservation Description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nance - documents the history of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- documents object identifiers and their generation mechanis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ity - documents methods used to ensure there are no undocumente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- the relationship of the object to its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0" y="934920"/>
            <a:ext cx="451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440" y="934920"/>
            <a:ext cx="450720" cy="287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914400"/>
            <a:ext cx="1655640" cy="531720"/>
          </a:xfrm>
          <a:custGeom>
            <a:avLst/>
            <a:gdLst/>
            <a:ahLst/>
            <a:rect l="l" t="t" r="r" b="b"/>
            <a:pathLst>
              <a:path w="3696" h="1248">
                <a:moveTo>
                  <a:pt x="0" y="0"/>
                </a:moveTo>
                <a:lnTo>
                  <a:pt x="288" y="0"/>
                </a:lnTo>
                <a:lnTo>
                  <a:pt x="288" y="960"/>
                </a:lnTo>
                <a:lnTo>
                  <a:pt x="1824" y="960"/>
                </a:lnTo>
                <a:lnTo>
                  <a:pt x="1824" y="528"/>
                </a:lnTo>
                <a:lnTo>
                  <a:pt x="2016" y="528"/>
                </a:lnTo>
                <a:lnTo>
                  <a:pt x="2016" y="960"/>
                </a:lnTo>
                <a:lnTo>
                  <a:pt x="3408" y="960"/>
                </a:lnTo>
                <a:lnTo>
                  <a:pt x="3408" y="48"/>
                </a:lnTo>
                <a:lnTo>
                  <a:pt x="3696" y="48"/>
                </a:lnTo>
                <a:lnTo>
                  <a:pt x="3696" y="1248"/>
                </a:lnTo>
                <a:lnTo>
                  <a:pt x="0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1577880"/>
            <a:ext cx="6444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8000640" y="1425240"/>
            <a:ext cx="322200" cy="204840"/>
          </a:xfrm>
          <a:prstGeom prst="line">
            <a:avLst/>
          </a:prstGeom>
          <a:ln w="38160">
            <a:solidFill>
              <a:srgbClr val="adf0c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533520"/>
            <a:ext cx="8686800" cy="304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14640" y="49320"/>
            <a:ext cx="474336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28:48Z</dcterms:created>
  <dc:creator>Ruth Duerr</dc:creator>
  <dc:description/>
  <dc:language>en-US</dc:language>
  <cp:lastModifiedBy>Ruth Duerr</cp:lastModifiedBy>
  <cp:lastPrinted>2002-10-01T17:30:54Z</cp:lastPrinted>
  <dcterms:modified xsi:type="dcterms:W3CDTF">2009-07-08T05:46:27Z</dcterms:modified>
  <cp:revision>6</cp:revision>
  <dc:subject/>
  <dc:title>Preservation &amp; Stewardship</dc:title>
</cp:coreProperties>
</file>